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B1C-AD9E-44F4-9FFD-B2BFC223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6D5-6EDE-4B91-8DA8-29CC6770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23A-47A6-4494-9746-4B415702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BD9-A7E4-45A8-A366-753DEC01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265-F7FA-48E4-B0D0-7A854C1B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A68-C3FE-4DB5-AE30-21E222A1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607-3666-48FF-A446-181C07F2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230-9FF3-4E7F-A41C-0D9095DF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3A9-3EE3-4CC5-82AA-EAC838ED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523-92EF-483F-9CD6-F66D3B59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C58-9CE2-4CF4-A8FF-146BDF78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8CF-81E7-47B9-8C12-CA54A7FF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860B-F260-43B8-8860-58AFFEDE9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Realtime Shadow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im C. Schröder (tim@blitzcode.n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gh quality shadows because lightmap computations is usually done offline and sophisticated algorithms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y fast to render, shadow function is a simple texture loo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tic, lights and scene geometry cannot be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rges scenes can consume a lot of textur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 keep memory consumption at acceptable levels texture resolution is usually low, small shadow details a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curately parametrizing (unwrapping) arbitrary scene geometry on a texture is a non-trivi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rge computation times might interrupt workflow of scene ed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ll Goo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spite the long list of disadvantages, lightmaps are a popular choice. 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 many applications, the scene and the lights are in fact 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ard to beat arbitrary complex shadows at the cost of a texture loo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d i.e. for the Quake series of games through many hardware gen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q1shot132" descr=""/>
          <p:cNvPicPr/>
          <p:nvPr/>
        </p:nvPicPr>
        <p:blipFill>
          <a:blip r:embed="rId1"/>
          <a:stretch/>
        </p:blipFill>
        <p:spPr>
          <a:xfrm>
            <a:off x="304920" y="388620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85" name="q2dm8" descr=""/>
          <p:cNvPicPr/>
          <p:nvPr/>
        </p:nvPicPr>
        <p:blipFill>
          <a:blip r:embed="rId2"/>
          <a:stretch/>
        </p:blipFill>
        <p:spPr>
          <a:xfrm>
            <a:off x="3200400" y="3886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86" name="quake3arena" descr=""/>
          <p:cNvPicPr/>
          <p:nvPr/>
        </p:nvPicPr>
        <p:blipFill>
          <a:blip r:embed="rId3"/>
          <a:stretch/>
        </p:blipFill>
        <p:spPr>
          <a:xfrm>
            <a:off x="6095880" y="38862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600228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Quake 1 (199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oftware Ren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600228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ke 2 (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dware Raste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600228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ke 3 (19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dware T&amp;L / Raste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1680" y="36576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Quake 1, 2 and 3 are (C) ID Soft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hadow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troduced 1978 by Williams in „Casting curved shadows on curved surfaces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age space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asy to implement in 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ery general, supports self-shadowing, can cast shadows from non-polygonal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Used for software &amp; hardware as well as online &amp; offline rend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Widely U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landing_1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5029200" cy="2836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2280" y="47242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 scene from „Luxo Jr.“, Pixar‘s very first movie from 1986. The movie used shadow maps and was rendered off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luxo4" descr=""/>
          <p:cNvPicPr/>
          <p:nvPr/>
        </p:nvPicPr>
        <p:blipFill>
          <a:blip r:embed="rId2"/>
          <a:stretch/>
        </p:blipFill>
        <p:spPr>
          <a:xfrm>
            <a:off x="6858000" y="1600200"/>
            <a:ext cx="2104920" cy="1787400"/>
          </a:xfrm>
          <a:prstGeom prst="rect">
            <a:avLst/>
          </a:prstGeom>
          <a:ln w="0">
            <a:noFill/>
          </a:ln>
        </p:spPr>
      </p:pic>
      <p:pic>
        <p:nvPicPr>
          <p:cNvPr id="97" name="luxo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2117880" cy="1779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10080" y="1523880"/>
            <a:ext cx="1447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bout 15 years later, the same movie runs in realtime on an NVIDIA GeForce 3 card, still using shadow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44956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TM &amp; © 1986 - 2004 Pix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57150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mages courtesy of NVI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ow Does It Work (1/2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t‘s a 2 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rst, a depth buffer for the light‘s point of view is generated. This is the actual shadow map. It is used in the second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xt the scene is rendered from the eye poin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ach fragment‘s position is transformed into the view space of the lightsource and projected onto the shadow map (Just a 4x4 matrix transfo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f fragment Z is greater than shadow map Z, there must be something between the lightsource and the fragment. It is shad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ow Does It Work (2/2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Unbenannt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152880" cy="3152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487692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ragment is in shadow cause there‘s a surface closer to the light than the fragment. The red / green lines are the depth values in the space of the shadow ma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1600200"/>
            <a:ext cx="4800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urther re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 J. Killgard, NVI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adow Mapping with Today's OpenGL Hardwar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Fast thanks to efficient hardware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ery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asy to i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an be extended to generate very high quality shadows, i.e. depth correct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ca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liasing (perspective, small objects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pth precision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an‘t handle point lights with a single shadow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o soft sha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ts of Problems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ood news is, shadow maps have been in use for decades, and many useful variants adressing these issues have been developed. We will now look into a few of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What is Realtime Shadowing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ome people think it‘s only realtime if the shadow computations are actually done every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 one of the most poweful optimizations is to assume that lights, viewer and / or scene geometry is static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o „Realtime“ can also mean static shadows for walkthrough applications where only the viewer moves /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ardware Shadow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523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ny 3D accelerators (i.e. various NVIDIA and SGI ones), have hardware support for shadow map depth testing and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screenshot1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337280" cy="4132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800600" y="47242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rdware shadow mapping with multiple samples and percentage closer filtering running in realtime on a GeForce 4 G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erspective Shadow Maps</a:t>
            </a:r>
            <a:br>
              <a:rPr sz="44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tamminger / Drettakis, 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1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19" name="s2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s3" descr=""/>
          <p:cNvPicPr/>
          <p:nvPr/>
        </p:nvPicPr>
        <p:blipFill>
          <a:blip r:embed="rId3"/>
          <a:stretch/>
        </p:blipFill>
        <p:spPr>
          <a:xfrm>
            <a:off x="2666880" y="16002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21" name="s4" descr=""/>
          <p:cNvPicPr/>
          <p:nvPr/>
        </p:nvPicPr>
        <p:blipFill>
          <a:blip r:embed="rId4"/>
          <a:stretch/>
        </p:blipFill>
        <p:spPr>
          <a:xfrm>
            <a:off x="2666880" y="4114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43000" y="3886200"/>
            <a:ext cx="30492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3886200"/>
            <a:ext cx="30492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400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6400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erspectiv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160020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is technique can significantly reduce shadow map aliasing by doing shadow testing in post-perspective space which reduces perspective ali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57913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mages taken from paper „Perspective Shadow Maps“ SIGGRAPH 2002 conference proceed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ual Paraboloid Shadow Mapping</a:t>
            </a:r>
            <a:br>
              <a:rPr sz="44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Heidrich / Seidel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rmal shadow maps are fine for spot lights, but what about hemispherical or omnidirectional (point) ligh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ed to represent those i.e. with cube maps, which is very expensive because 6 shadow maps need to be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n‘t use a sphere mapping projection, too much dist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ut we can use a dual paraboloid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ows us to render shadows from point lights with just two shadow 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ep Shadow Maps</a:t>
            </a:r>
            <a:br>
              <a:rPr sz="44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Lokovic / Veach, SIGGRAPH 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fficient shadowing for hair / fur / smoke / cloud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screenshot2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33" name="screenshot3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2539800" cy="2540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920" y="50292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VIDIA uses Deep Shadow Maps to render the subtle self-shadowing effects of hair in a tech demo used to present their upcoming GeForce 6 GPU (NV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screenshot1" descr=""/>
          <p:cNvPicPr/>
          <p:nvPr/>
        </p:nvPicPr>
        <p:blipFill>
          <a:blip r:embed="rId3"/>
          <a:stretch/>
        </p:blipFill>
        <p:spPr>
          <a:xfrm>
            <a:off x="533520" y="2209680"/>
            <a:ext cx="2539800" cy="2540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33920" y="472428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mages courtesy of NVI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moothie“ Shadow Maps</a:t>
            </a:r>
            <a:br>
              <a:rPr sz="44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Chan / Durand, 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Image31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39" name="Image31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140" name="Image31" descr=""/>
          <p:cNvPicPr/>
          <p:nvPr/>
        </p:nvPicPr>
        <p:blipFill>
          <a:blip r:embed="rId3"/>
          <a:stretch/>
        </p:blipFill>
        <p:spPr>
          <a:xfrm>
            <a:off x="152280" y="40384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41" name="Image31" descr=""/>
          <p:cNvPicPr/>
          <p:nvPr/>
        </p:nvPicPr>
        <p:blipFill>
          <a:blip r:embed="rId4"/>
          <a:stretch/>
        </p:blipFill>
        <p:spPr>
          <a:xfrm>
            <a:off x="2590920" y="403848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280" y="6477120"/>
            <a:ext cx="480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mages courtesy of Chan / Durand, Laboratory for Computer Science, 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1905120"/>
            <a:ext cx="26672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des aliasing arti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oks like depth correct soft sha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ch faster than sampling area 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nd There‘s Even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any more shadow map variants out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daptive SMs, Woo SMs, Forward SM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ill a lot of research going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ew hardware will enable more methods to run in real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any techniques are not mutually exclusive and can be combined for even better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esearch, combine and experimen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hadow Volu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523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 room shown earlier with lightmap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Image11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5181840" cy="4140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486400" y="55627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..now shadowed by two dynamic lights using stencil shadows vol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Image11" descr=""/>
          <p:cNvPicPr/>
          <p:nvPr/>
        </p:nvPicPr>
        <p:blipFill>
          <a:blip r:embed="rId2"/>
          <a:stretch/>
        </p:blipFill>
        <p:spPr>
          <a:xfrm>
            <a:off x="152280" y="2514600"/>
            <a:ext cx="52578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Widely U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doom3_010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8600" y="54100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D Software‘s upcoming game Doom 3 makes heavy use of shadow volumes. It is planned to be released this year and receives lots of attention for its use of dynamic sha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1600200"/>
            <a:ext cx="297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nce the invention of shadow volumes (1977 / Crow) they have been used for all kinds of applications and have been implemented on very different hardware / software render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ow Does It Work (1/3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Fragments inside the shadow volume of a shadow caster are shad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hadow volume extends either infinitely or inside the attenuation range of the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Unbenannt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36576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ow Does It Work (2/3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ow to detect if position is in the shadow volum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unt how many times ray from eye to position enters / leaves shadow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ay enters a shadow volume when it hits a front facing shadow volume polygon, and leaves when it hits a backfacing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Unbenannt2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3581280" cy="2776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0" y="3505320"/>
            <a:ext cx="42670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Lit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nters 2x, Leaves 2x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2 – 2 == 0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i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Shadow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nters 1x, Leaves 0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1 – 0 != 0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 Shadow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ifferences Between Shadows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w dynamic ? (Assumes static scene / Can lights move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uality (Hard / „Smooth“ or anti-aliased / depth correct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strictions (Closed geometry, on viewer position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mory consumption (Data structures, precomput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erformance (Best case vs. Worst case, scalabilit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51055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 will look into various methods with most of those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ow Does It Work (3/3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 need to map this counting into hardware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 can do it with the help of the stencil &amp; depth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ree p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s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nder the scene into the depth buf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stencil buffer t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nd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nder front faces of shadow volume and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crement when depth test p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rd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nder back faces of shadow volume and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crement when depth test p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Lit regions will have a stencil value of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Hardware support widely available, all you need is a stenci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depth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I support as well, i.e. unextended OGL 1.0 is en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pports point lights, no problems like with shadow m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hadows are pixel-perfect, no aliasing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verything can shadow everything, self shadowing sup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unting fails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y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is inside any shadow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ilhouette extraction required, can be 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an only handle properly closed manifold ge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nsumes a lot of fill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o obvious ways of doing fast soft shadow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cales not as well as shadow maps and has a potentially large gap between best and worst cas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gain, Lots of Problems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nd we‘re lucky again, lots of improvements and additions have been done since Crow introduced shadow volumes in 19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Zfail / „Carmack‘s Reverse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ed to fix case where viewer is in shadow volume (Near plane clipp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ink of eye &amp; object being in the same shadow volume, Enters – Leaves = 0, which means the fragment is lit even though it is in sha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versing depth test can fix thi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nder back faces of shadow volume and increment when depth test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nder front faces of shadow volume and decrement when depth test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otice how this shifts the clipping issue from the near to the far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voiding far plane clipping is e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ilhouette Ex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eed to obtain object silhouettes from eye view to generate shadow volume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low, doesn‘t scale well and usually done on the C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an be done in a vertex shad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an be accelerated by using hierachical data structur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IHVs improve GPUs to accelerate shadow volu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GeForce 3 introduced support for NV_depth_clamp extension, helping to prevent far plane clipping of shadow volu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Most new hardware has an accelerated path for rendering Z-Buffer only which helps with the first Z-Buffer p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ATI &amp; NV D3D9 hardware can define separate stencil functions for front / backfacing triangles, collapsing the two shadow volume passes into 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GeForce 6 (NV40) will have special optimizations for stencil rendering and additional API support for making shadow volumes even fa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Current and future hardware has a lot of fillrate to bu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oft Shadows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bvious method of doing soft shadows by using many point light samples will be way too slow, even with current 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emember the „Smoothie“ method from shadow maps ? A simpler version of this algorithm can be applied to shadow vol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y previous employer did that and paten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oft Shadows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enine-Möller / Assarsson developed a new shadow volume based soft shadow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ttp://www.ce.chalmers.se/staff/tomasm/sof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alien_knight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81" name="opengl_demo_4a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Optimize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f the light and shadow casters are static, precompute shadow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f you precompute shadow volumes, remove redundant 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1" descr=""/>
          <p:cNvPicPr/>
          <p:nvPr/>
        </p:nvPicPr>
        <p:blipFill>
          <a:blip r:embed="rId1"/>
          <a:stretch/>
        </p:blipFill>
        <p:spPr>
          <a:xfrm>
            <a:off x="1143000" y="4191120"/>
            <a:ext cx="2768760" cy="2189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038480" y="56386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adow volume No. 2 is redundant and can be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Most Useful Realtime Shadow Techniqu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ight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hadow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hadow Vol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52578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st other methods are either currently too slow for realtime display or rather primitive (bad quality, only working in a few special ca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Optimize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ilhouette extraction is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 it in a vertex shader on the G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 better algorithms on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age space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se simplified geometry for the shadow ca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Lots of API / Hardware specific optimizations, ATI / NVIDIA have material telling you 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ny more optimization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pherical Harmonics &amp; Precomputed Radiance Trans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Family of algorithms allowing global illumination quality lighting (and shadowing !) in real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ore related to lightmaps than to shadow volumes or shadow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Usually requires more math and theorie than the other three popular shadow methods, many misconceptions out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rief Review of Spherical Harmo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Unbenann2t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ow Does That Help Us With Shadows (1/6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ow we can represent low-frequency spherical signals with few coeffic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ight arriving at a surface point from various directions is such a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cclusion of the hemisphere at a surface point is another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ote that occlusion is not really low-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ee how this relates to lightmap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ow Does That Help Us With Shadows (2/6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Lightmaps store the occlusion for on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 direction to the single static light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With SH we can store the occlusion for all direction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 directional light describes light arriving at on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With SH we can describe the light arriving from all direction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ow Does That Help Us With Shadows (3/6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magine an object with several area lights around it (sky, sun, light bul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ose can be projected on a sphere around th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is spherical signal can be represented by SH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or each surface point store the occlusion (Lightmap lik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ut this time, we store not only the occlusion for a single direction, but all directions on the hemi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other spherical signal we can represent by SH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ow Does That Help Us With Shadows (4/6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 now have an SH representation of our light and our occlusion / sha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 can now start rendering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ach direction in our „light sphere“ can be seen as an individual light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ach direction in our „occlusion hemisphere“ computed for each surface point represents the occlusion function for the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ust like with lightmaps we multiply the incoming light with the occlusion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ould need to do this for every direction and accumulate results, Slow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ow Does That Help Us With Shadows (5/6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H math trick helps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inner product of the SH coefficients of the two signals (incoming light &amp; occlusion) is equal to the expensive integration over the hemi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 just reduced a complex operator to a few hardware friendly multiply-add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ut there are even more advantag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ow Does That Help Us With Shadows (6/6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Notice that once we have the SH representation of the occlusion, our rendering speed is independent of the complexity of the shadow algorithm (Just like lightmaps)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Also, once we have the SH representation of the lighting, we can render any amount of lights with arbitrary shape and complexity at a constant cost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Just like with lightmaps, we can compute the occlusion as a pre-process. This of course assumes that the geometry is 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But we can quickly generate the lighting SH at runtime, basically giving us lightmap quality lighting with dynamic lights at realtime framer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ome 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Image38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724640" cy="38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5867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ages rendered by the DirectX 9.0 SDK example „SHPRTVertex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Image38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40388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Light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Ms" descr=""/>
          <p:cNvPicPr/>
          <p:nvPr/>
        </p:nvPicPr>
        <p:blipFill>
          <a:blip r:embed="rId1"/>
          <a:stretch/>
        </p:blipFill>
        <p:spPr>
          <a:xfrm>
            <a:off x="152280" y="3017880"/>
            <a:ext cx="4572000" cy="3668760"/>
          </a:xfrm>
          <a:prstGeom prst="rect">
            <a:avLst/>
          </a:prstGeom>
          <a:ln w="0">
            <a:noFill/>
          </a:ln>
        </p:spPr>
      </p:pic>
      <p:pic>
        <p:nvPicPr>
          <p:cNvPr id="53" name="LMs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4496040" cy="3600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76920" y="55627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tice the high-quality depth-correct sha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H Usually Store More</a:t>
            </a:r>
            <a:br>
              <a:rPr sz="4400"/>
            </a:b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(Just like lightmaps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Image3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651640" cy="4305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28600" y="5867280"/>
            <a:ext cx="56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e courtesy of Robin Green, SCEA. Taken from „Spherical Harmonic Lighting: The Gritty Details“, a very good introduction to the su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1447920"/>
            <a:ext cx="2895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 global illumination solution is stored as SH. Unlike with lightmaps, we can actually add or move light sources and have the shadowing (and all other GI effects) update accordin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SH only suited for low-frequency signals, so no sharp shado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avelets as alternative, see „All-Frequency Shadows Using Non-linear Wavelet Lighting Approximatio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Precomputation time for SH occlusion (or even full GI) even higher than for lightma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Memory consumption can be very high, many SH coefficients vs. a single occlusion value in a lightma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Not fully dynamic, i.e. can‘t change scene geome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an use „Neighbourhood Transfer“ for shadows from dynamic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an sample irradiance on a volumetric and store as SH to have shadows on dynamic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e open minded, as hardware improves and research continues, infeasible and even impossible techniques can become us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You don‘t need to understand every single shadow algorithm out there, but knowing about the most important ones will help you to choose the right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IGGRAPH conference procee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ww.RealtimeRendering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iteSeer (http://citeseer.ist.psu.edu/c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VIDIA (http://developer.nvidia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y website (www.blitzcode.n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Thank You For The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ow Does It Work (1/3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Image6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962520" cy="3108240"/>
          </a:xfrm>
          <a:prstGeom prst="rect">
            <a:avLst/>
          </a:prstGeom>
          <a:ln w="0">
            <a:noFill/>
          </a:ln>
        </p:spPr>
      </p:pic>
      <p:pic>
        <p:nvPicPr>
          <p:cNvPr id="57" name="Image6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ssign each surface in the scene to a unique spot in a texture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3048120"/>
            <a:ext cx="68580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ow Does It Work (2/3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roject_13_big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2" name="Image6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3403800" cy="340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14800" y="3200400"/>
            <a:ext cx="685800" cy="762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6386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mpute shadows with a high quality method such as ray casting (sampling) and store the occlusion for the surfaces in the te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ow Does It Work (3/3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Image6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2895480" cy="2220840"/>
          </a:xfrm>
          <a:prstGeom prst="rect">
            <a:avLst/>
          </a:prstGeom>
          <a:ln w="0">
            <a:noFill/>
          </a:ln>
        </p:spPr>
      </p:pic>
      <p:pic>
        <p:nvPicPr>
          <p:cNvPr id="67" name="Image6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240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Image6" descr=""/>
          <p:cNvPicPr/>
          <p:nvPr/>
        </p:nvPicPr>
        <p:blipFill>
          <a:blip r:embed="rId3"/>
          <a:stretch/>
        </p:blipFill>
        <p:spPr>
          <a:xfrm>
            <a:off x="6095880" y="2514600"/>
            <a:ext cx="2819520" cy="224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7150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5029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t Scene * Occlusion Factor = Shadowed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828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ep 1 &amp; 2 are preprocess, at render time we simply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Lightmaps Usually Store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roject_70_big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019920" cy="4138560"/>
          </a:xfrm>
          <a:prstGeom prst="rect">
            <a:avLst/>
          </a:prstGeom>
          <a:ln w="0">
            <a:noFill/>
          </a:ln>
        </p:spPr>
      </p:pic>
      <p:pic>
        <p:nvPicPr>
          <p:cNvPr id="75" name="project_66_big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324480" y="3124080"/>
            <a:ext cx="2667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re a global illumination solution (computed with Photon Mapping) has been stored in the light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61722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256x256 lightmap used for this sc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5:55:52Z</dcterms:created>
  <dc:creator>tcs</dc:creator>
  <dc:description/>
  <dc:language>en-US</dc:language>
  <cp:lastModifiedBy>Tim</cp:lastModifiedBy>
  <dcterms:modified xsi:type="dcterms:W3CDTF">2004-04-17T14:10:30Z</dcterms:modified>
  <cp:revision>276</cp:revision>
  <dc:subject/>
  <dc:title>Realtime Shadow Techniques</dc:title>
</cp:coreProperties>
</file>